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4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46.wmf" ContentType="image/x-wmf"/>
  <Override PartName="/ppt/media/image3.png" ContentType="image/png"/>
  <Override PartName="/ppt/media/image26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48.png" ContentType="image/png"/>
  <Override PartName="/ppt/media/image11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A59-C8C5-429E-BBD4-55CE06B8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BB6-7B5C-4DD0-905B-8A4865F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F19-8AD0-4D4E-923F-442BCADD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3F5-D611-442F-AFF3-C6D0ED8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469-7545-4CC6-B084-321AFDA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6AF-D612-48CA-9828-D37958B7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DF8-DC20-481E-84A2-4F24FA2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383-5E4F-4F24-86EB-5C8E96A2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2F4-1BCB-4D13-AED6-E5A79AE5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43A-38E1-4BB6-B543-2FF1E32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FC1-0500-4489-9C9E-4CDDA140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73A-AF90-4133-B062-DBF7A980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541920"/>
            <a:ext cx="4418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ISS CERN 05 J.E Campagne LA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187C-64E0-4BD8-AE2B-A61A2998FB22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5160" y="636444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ISS-CERN 22-24/9/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09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64E1-3617-475B-A4E2-3C66DDA9F3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PL-Fréju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ome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éjus sit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ench Photodetector R&amp;D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6647040" y="123840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98880" y="633420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See also talk at Acc. W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0200" y="5567400"/>
            <a:ext cx="7678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hanks: A. Cazes, M. Mezzetto, L. Mosca,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and IPNO &amp; LAL engeeners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99880" y="1214280"/>
            <a:ext cx="4572000" cy="4486320"/>
            <a:chOff x="299880" y="1214280"/>
            <a:chExt cx="4572000" cy="44863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99880" y="1214280"/>
              <a:ext cx="457200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08680" y="1874880"/>
              <a:ext cx="191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240" y="4348080"/>
              <a:ext cx="2179800" cy="699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ffect of the systematic (sig. &amp; bkg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162400" y="5095800"/>
            <a:ext cx="37227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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0.82, sin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=0,4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7.9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2.4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 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&amp;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use SPL disappearance channel and spectrum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3960" y="2127240"/>
            <a:ext cx="3160440" cy="20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uch more dramatic than ambiguities at small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move ambiguities with ATM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2440" y="1486080"/>
            <a:ext cx="9000360" cy="3918240"/>
            <a:chOff x="352440" y="1486080"/>
            <a:chExt cx="9000360" cy="391824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52440" y="1486080"/>
              <a:ext cx="84391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80000" y="50054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7960" y="5649840"/>
            <a:ext cx="341280" cy="273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66080" y="559260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Contour after ATM combin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54160" y="59421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: true valu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1155600"/>
            <a:ext cx="405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Favorable case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6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263880" y="4927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y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2100240"/>
            <a:ext cx="211608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2H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40k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réjus site possibil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23920" y="977760"/>
            <a:ext cx="7875000" cy="5602680"/>
            <a:chOff x="1123920" y="977760"/>
            <a:chExt cx="7875000" cy="5602680"/>
          </a:xfrm>
        </p:grpSpPr>
        <p:grpSp>
          <p:nvGrpSpPr>
            <p:cNvPr id="214" name=""/>
            <p:cNvGrpSpPr/>
            <p:nvPr/>
          </p:nvGrpSpPr>
          <p:grpSpPr>
            <a:xfrm>
              <a:off x="1123920" y="977760"/>
              <a:ext cx="7340760" cy="5538960"/>
              <a:chOff x="1123920" y="977760"/>
              <a:chExt cx="7340760" cy="55389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123920" y="977760"/>
                <a:ext cx="7340760" cy="5538960"/>
                <a:chOff x="1123920" y="977760"/>
                <a:chExt cx="7340760" cy="553896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23920" y="977760"/>
                  <a:ext cx="7340760" cy="553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3997440" y="254628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84920" y="264780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29360" y="253512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227760" y="2151000"/>
                <a:ext cx="167544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K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88160" y="2684520"/>
                <a:ext cx="245736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enderson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25800" y="2106720"/>
                <a:ext cx="2727000" cy="3988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New Fréju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66520" y="6181560"/>
              <a:ext cx="18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L.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ew Fréjus Cavern (MEMPHYS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11760" y="1154160"/>
            <a:ext cx="3702960" cy="5016600"/>
            <a:chOff x="311760" y="1154160"/>
            <a:chExt cx="3702960" cy="5016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26492" t="0" r="32464" b="3039"/>
            <a:stretch/>
          </p:blipFill>
          <p:spPr>
            <a:xfrm>
              <a:off x="871560" y="1154160"/>
              <a:ext cx="3143160" cy="501660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311760" y="5324400"/>
              <a:ext cx="278496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Fréjus*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14760" y="567684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480" y="2568600"/>
              <a:ext cx="244512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9080" y="289260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8120" y="312588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46440" y="405756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360" y="611964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*: Modan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560" y="4630680"/>
            <a:ext cx="5032440" cy="174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ased on well experienced civil engineer studies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First cost and time estimate will come soon for a dedicated operation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eyond that  a Design Study is need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954840" y="888840"/>
            <a:ext cx="1555920" cy="2825640"/>
            <a:chOff x="6954840" y="888840"/>
            <a:chExt cx="1555920" cy="2825640"/>
          </a:xfrm>
        </p:grpSpPr>
        <p:sp>
          <p:nvSpPr>
            <p:cNvPr id="237" name=""/>
            <p:cNvSpPr/>
            <p:nvPr/>
          </p:nvSpPr>
          <p:spPr>
            <a:xfrm>
              <a:off x="6973920" y="88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85080" y="155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53480" y="155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4840" y="153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6960" y="1003320"/>
            <a:ext cx="1555920" cy="2825640"/>
            <a:chOff x="6276960" y="1003320"/>
            <a:chExt cx="1555920" cy="2825640"/>
          </a:xfrm>
        </p:grpSpPr>
        <p:sp>
          <p:nvSpPr>
            <p:cNvPr id="242" name=""/>
            <p:cNvSpPr/>
            <p:nvPr/>
          </p:nvSpPr>
          <p:spPr>
            <a:xfrm>
              <a:off x="6296040" y="1003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7200" y="1671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5600" y="1665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6960" y="1654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61000" y="1158840"/>
            <a:ext cx="1555920" cy="2825640"/>
            <a:chOff x="5661000" y="1158840"/>
            <a:chExt cx="1555920" cy="2825640"/>
          </a:xfrm>
        </p:grpSpPr>
        <p:sp>
          <p:nvSpPr>
            <p:cNvPr id="247" name=""/>
            <p:cNvSpPr/>
            <p:nvPr/>
          </p:nvSpPr>
          <p:spPr>
            <a:xfrm>
              <a:off x="5680080" y="115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91240" y="182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59640" y="182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61000" y="180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091120" y="1290600"/>
            <a:ext cx="1555920" cy="2825640"/>
            <a:chOff x="5091120" y="1290600"/>
            <a:chExt cx="1555920" cy="2825640"/>
          </a:xfrm>
        </p:grpSpPr>
        <p:sp>
          <p:nvSpPr>
            <p:cNvPr id="252" name=""/>
            <p:cNvSpPr/>
            <p:nvPr/>
          </p:nvSpPr>
          <p:spPr>
            <a:xfrm>
              <a:off x="5110200" y="12906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21360" y="19591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9760" y="19526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1120" y="19414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18600" y="1440000"/>
            <a:ext cx="2241720" cy="2825640"/>
            <a:chOff x="3918600" y="1440000"/>
            <a:chExt cx="2241720" cy="2825640"/>
          </a:xfrm>
        </p:grpSpPr>
        <p:sp>
          <p:nvSpPr>
            <p:cNvPr id="257" name=""/>
            <p:cNvSpPr/>
            <p:nvPr/>
          </p:nvSpPr>
          <p:spPr>
            <a:xfrm>
              <a:off x="4340160" y="21081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18600" y="1440000"/>
              <a:ext cx="2241720" cy="2792520"/>
              <a:chOff x="3918600" y="1440000"/>
              <a:chExt cx="2241720" cy="27925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9000" y="14400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8200" y="21020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460760" y="23302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28120" y="16783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433400" y="24973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8600" y="30150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0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09920" y="20908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956600" y="610704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4800mw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960" y="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4400">
            <a:off x="4638600" y="3225600"/>
            <a:ext cx="4226760" cy="579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5x200,000m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H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9080" y="457200"/>
            <a:ext cx="77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99"/>
                </a:solidFill>
                <a:latin typeface="Comic Sans MS"/>
              </a:rPr>
              <a:t>PMT size &lt;=&gt; cost</a:t>
            </a:r>
            <a:endParaRPr b="0" lang="en-US" sz="4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366960" y="134136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8785080" cy="190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Diameter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“   &lt;=&gt;      (20“)17“   &lt;=&gt;    12“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projected area         1660                 1450            615    cm²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QE(typ)     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                     20              24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CE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           60                     60              70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2680" y="3645000"/>
            <a:ext cx="8636040" cy="609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Cost                   2500               2500           800   </a:t>
            </a:r>
            <a:r>
              <a:rPr b="1" lang="de-DE" sz="3200" spc="-1" strike="noStrike">
                <a:solidFill>
                  <a:srgbClr val="0000ff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4724280"/>
            <a:ext cx="8820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   7.7 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€/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cm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9080" y="45684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Quantities and total cos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5520" y="2492280"/>
            <a:ext cx="8540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20“     </a:t>
            </a:r>
            <a:r>
              <a:rPr b="1" i="1" lang="de-DE" sz="3600" spc="-1" strike="noStrike">
                <a:solidFill>
                  <a:srgbClr val="ff0000"/>
                </a:solidFill>
                <a:latin typeface="Comic Sans MS"/>
              </a:rPr>
              <a:t>200,000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   x  € 2500 = 500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12“   540,000       x  €800   = </a:t>
            </a:r>
            <a:r>
              <a:rPr b="1" i="1" lang="de-DE" sz="3600" spc="-1" strike="noStrike">
                <a:solidFill>
                  <a:srgbClr val="0000ff"/>
                </a:solidFill>
                <a:latin typeface="Comic Sans MS"/>
              </a:rPr>
              <a:t>432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98040" y="483228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Comment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one should integrate the electronic + HV pri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46576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66960" y="1969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hotodetector R&amp;D in Franc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3000" y="1386000"/>
            <a:ext cx="8364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&amp;D launched after NNN05 but based on on-going R&amp;D with Photoni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PN-Orsay, LAL &amp; Photoni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together in an official GIS to develop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art-Photodetectors (</a:t>
            </a:r>
            <a:r>
              <a:rPr b="0" i="1" lang="en-GB" sz="1800" spc="-1" strike="noStrike">
                <a:solidFill>
                  <a:srgbClr val="ff0000"/>
                </a:solidFill>
                <a:latin typeface="Comic Sans MS"/>
              </a:rPr>
              <a:t>ie electronic up to ADC/TDC included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: 6 engineers + 2 post-docs  + Photonis engineer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200k€/3yrs has been asked at the new National Research Agency (ANR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329760" y="5386320"/>
            <a:ext cx="91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otonis @ NNN05: 500,000 PMT -12”- 800€/u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Comic Sans MS"/>
              </a:rPr>
              <a:t>New pump capacity needed?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43120" y="112392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Delivery over 6 years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300 working days/yea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133720"/>
            <a:ext cx="7781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20“ tube</a:t>
            </a:r>
            <a:r>
              <a:rPr b="0" i="1" lang="de-DE" sz="2000" spc="-1" strike="noStrike" u="sng">
                <a:solidFill>
                  <a:srgbClr val="000099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50,000/6/300 =&gt; 28 good tubes x yield 0.7 = 40 starts/day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(1 start/pump/day) =&gt;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40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( € 7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3120" y="3181320"/>
            <a:ext cx="7781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12“ tub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135,000/6/300 =&gt; 75 good tubes x yield 0.7 = 110 starts/day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99"/>
                </a:solidFill>
                <a:latin typeface="Comic Sans MS"/>
              </a:rPr>
              <a:t>A multi-array computerised pump at Photonis handles 20 starts/da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       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=&gt;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6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( € 2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6080" y="6461280"/>
            <a:ext cx="51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Comment: x4 the PMT numb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62360" y="1670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9080" y="19800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+ Sub-conclusions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12“ seems much better than 20“/17“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cost per useful photoelectron &amp; total PMT cos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single-electron resolution (17“ equal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granularity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weight and handl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mplosion risk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nvestments and start-up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7920" y="593280"/>
            <a:ext cx="752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Photonis has all the technical capability needed!</a:t>
            </a:r>
            <a:br>
              <a:rPr sz="3200"/>
            </a:br>
            <a:br>
              <a:rPr sz="2800"/>
            </a:b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R&amp;D cooperation:</a:t>
            </a: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detailed &amp; intensive talks are going on with the MEMPHYS collaboration to</a:t>
            </a:r>
            <a:r>
              <a:rPr b="1" i="1" lang="en-US" sz="2800" spc="-1" strike="noStrike">
                <a:solidFill>
                  <a:srgbClr val="003399"/>
                </a:solidFill>
                <a:latin typeface="Comic Sans MS"/>
              </a:rPr>
              <a:t> d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efine a balanced programme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Workshop planned in the spring</a:t>
            </a:r>
            <a:br>
              <a:rPr sz="2400"/>
            </a:b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ingredients for physics analysi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385640"/>
            <a:ext cx="80773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Č located 130km from CERN (see site later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sentially SK analysis with tighter cuts for e/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id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cf. hep-ph/0105297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energy resolution dominated by Fermi motion* (200MeV bins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2% systematics on signal &amp; bkgd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(see effect later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ptimized machine versions: </a:t>
            </a:r>
            <a:r>
              <a:rPr b="0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 (M. Mezzetto) and SB (A.C + J.E.C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Atmospheric Neutrino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Th. Schwetz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LoBES &amp; NU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0148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*: migration matrix for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lectron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29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fr-FR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cxnSp>
          <p:nvCxnSpPr>
            <p:cNvPr id="309" name=""/>
            <p:cNvCxnSpPr>
              <a:stCxn id="308" idx="1"/>
              <a:endCxn id="30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298" idx="3"/>
              <a:endCxn id="29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298" idx="3"/>
              <a:endCxn id="30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04" idx="0"/>
              <a:endCxn id="30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31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6" idx="3"/>
            <a:endCxn id="31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5" idx="3"/>
            <a:endCxn id="31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3"/>
            <a:endCxn id="29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echanics &amp; PMT tes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MT characteristics measuremen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16080" y="1090440"/>
            <a:ext cx="5715000" cy="4615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435280" y="1751040"/>
            <a:ext cx="40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1pe spectru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80480" y="4554360"/>
            <a:ext cx="3018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 14/9/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600" y="1687680"/>
            <a:ext cx="41000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XP1806 8”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bes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wor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60" y="5810400"/>
            <a:ext cx="84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o diff. 5”,8”,10” so 12” should be identic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56600" y="245592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2kV/G=10</a:t>
            </a:r>
            <a:r>
              <a:rPr b="0" lang="en-GB" sz="3200" spc="-1" strike="noStrike" baseline="30000">
                <a:solidFill>
                  <a:srgbClr val="003399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01720" y="541188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g=25 before ADC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51320" y="3687840"/>
            <a:ext cx="1528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95600" y="3332160"/>
            <a:ext cx="1528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0920" y="317016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/V~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159160" y="3289320"/>
            <a:ext cx="12600" cy="436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2200" y="1305000"/>
            <a:ext cx="82296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MEMPHYS Mt-scale Water Cerencov detector has a quite good accelerator neutrino program (not exposed here the Pdk and SN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R&amp;D on photodetector is started in France and will come in 2006 with first version of “SmartDetector”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Civil engineer pre-study for new Fréjus Lab. has been performed and seems encouraging (first costing will come soon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Other expected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5760" y="1655640"/>
            <a:ext cx="3954240" cy="4052880"/>
            <a:chOff x="4865760" y="1655640"/>
            <a:chExt cx="3954240" cy="4052880"/>
          </a:xfrm>
        </p:grpSpPr>
        <p:sp>
          <p:nvSpPr>
            <p:cNvPr id="346" name=""/>
            <p:cNvSpPr/>
            <p:nvPr/>
          </p:nvSpPr>
          <p:spPr>
            <a:xfrm>
              <a:off x="4875120" y="165564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865760" y="1761840"/>
              <a:ext cx="3678120" cy="3732120"/>
              <a:chOff x="4865760" y="1761840"/>
              <a:chExt cx="3678120" cy="373212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5760" y="2157120"/>
                <a:ext cx="3678120" cy="33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5475240" y="4186080"/>
                <a:ext cx="1200240" cy="76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+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-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4760" y="1761840"/>
                <a:ext cx="239616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Symbol"/>
                    <a:ea typeface="Symbol"/>
                  </a:rPr>
                  <a:t>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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684360" y="1635120"/>
            <a:ext cx="4020120" cy="4052880"/>
            <a:chOff x="684360" y="1635120"/>
            <a:chExt cx="4020120" cy="4052880"/>
          </a:xfrm>
        </p:grpSpPr>
        <p:sp>
          <p:nvSpPr>
            <p:cNvPr id="352" name=""/>
            <p:cNvSpPr/>
            <p:nvPr/>
          </p:nvSpPr>
          <p:spPr>
            <a:xfrm>
              <a:off x="684360" y="163512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8240" y="1739880"/>
              <a:ext cx="3936240" cy="3818160"/>
              <a:chOff x="768240" y="1739880"/>
              <a:chExt cx="3936240" cy="3818160"/>
            </a:xfrm>
          </p:grpSpPr>
          <p:pic>
            <p:nvPicPr>
              <p:cNvPr id="3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6480" y="2176560"/>
                <a:ext cx="3571920" cy="33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768240" y="1739880"/>
                <a:ext cx="375300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m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31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&amp; sin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2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measurement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37560" y="4583160"/>
                <a:ext cx="22669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5yrs (+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86040" y="5567400"/>
            <a:ext cx="52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annot resolve the octant alo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First results of a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easibility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 study for </a:t>
            </a:r>
            <a:br>
              <a:rPr sz="2400"/>
            </a:b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a Megaton-scale (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Memphys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) Laboratory at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réj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 the best site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depth of 4800 mwe :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of the two considered shapes : “tunnel” and “shaft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vertical cyli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, a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possibl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 of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24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ach =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1 20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                     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2119ac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 = 65m, h = 80m)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shafts, th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uld b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till improv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nly 4 shafts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an estimate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eded for the exca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co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unde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92960" y="646128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of the Atmospheric Da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19280" y="1076400"/>
            <a:ext cx="5937840" cy="5240520"/>
            <a:chOff x="1619280" y="1076400"/>
            <a:chExt cx="5937840" cy="524052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619280" y="1076400"/>
              <a:ext cx="535932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584320" y="59180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69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230800" y="5025960"/>
            <a:ext cx="36892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Octant and mass hierarchy degeneracy have little impact on the contour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comparisons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9144000" cy="4584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212880" y="5349960"/>
            <a:ext cx="32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M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article Id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from M. Mezzet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3430" r="0" b="0"/>
          <a:stretch/>
        </p:blipFill>
        <p:spPr>
          <a:xfrm>
            <a:off x="500040" y="1060560"/>
            <a:ext cx="8624880" cy="5460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1033560"/>
            <a:ext cx="5389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GLoB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90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9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4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22440" y="1200240"/>
            <a:ext cx="5130720" cy="53974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4889520" y="1611360"/>
            <a:ext cx="2082960" cy="1077120"/>
            <a:chOff x="4889520" y="1611360"/>
            <a:chExt cx="2082960" cy="1077120"/>
          </a:xfrm>
        </p:grpSpPr>
        <p:sp>
          <p:nvSpPr>
            <p:cNvPr id="403" name=""/>
            <p:cNvSpPr/>
            <p:nvPr/>
          </p:nvSpPr>
          <p:spPr>
            <a:xfrm>
              <a:off x="4949640" y="161136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1200" y="181296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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89520" y="2282760"/>
              <a:ext cx="20829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~1/2 </a:t>
              </a: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&amp; 1/2 K</a:t>
              </a:r>
              <a:r>
                <a:rPr b="0" lang="fr-FR" sz="1800" spc="-1" strike="noStrike" baseline="30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fr-FR" sz="1800" spc="-1" strike="noStrike" baseline="-25000">
                  <a:solidFill>
                    <a:srgbClr val="000099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9360" y="204156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composi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13200" y="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7360" y="1278000"/>
            <a:ext cx="301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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99080" y="3805200"/>
            <a:ext cx="286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5240" y="429084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33160" y="449280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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40280" y="4962600"/>
            <a:ext cx="3327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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36760" y="4724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Math1Mono"/>
                <a:ea typeface="Math1Mono"/>
              </a:rPr>
              <a:t>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22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27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5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ass hierarchy sensitiv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5240" y="5133960"/>
            <a:ext cx="2529000" cy="581400"/>
            <a:chOff x="1065240" y="5133960"/>
            <a:chExt cx="2529000" cy="581400"/>
          </a:xfrm>
        </p:grpSpPr>
        <p:sp>
          <p:nvSpPr>
            <p:cNvPr id="515" name=""/>
            <p:cNvSpPr/>
            <p:nvPr/>
          </p:nvSpPr>
          <p:spPr>
            <a:xfrm flipV="1">
              <a:off x="1065240" y="5419440"/>
              <a:ext cx="763560" cy="140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97080" y="5133960"/>
              <a:ext cx="22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.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066680" y="5506920"/>
            <a:ext cx="2324880" cy="581400"/>
            <a:chOff x="1066680" y="5506920"/>
            <a:chExt cx="2324880" cy="581400"/>
          </a:xfrm>
        </p:grpSpPr>
        <p:sp>
          <p:nvSpPr>
            <p:cNvPr id="518" name=""/>
            <p:cNvSpPr/>
            <p:nvPr/>
          </p:nvSpPr>
          <p:spPr>
            <a:xfrm flipV="1">
              <a:off x="1066680" y="5792760"/>
              <a:ext cx="763560" cy="144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9960" y="5506920"/>
              <a:ext cx="209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036800" y="5878440"/>
            <a:ext cx="3344760" cy="581400"/>
            <a:chOff x="1036800" y="5878440"/>
            <a:chExt cx="3344760" cy="581400"/>
          </a:xfrm>
        </p:grpSpPr>
        <p:sp>
          <p:nvSpPr>
            <p:cNvPr id="521" name=""/>
            <p:cNvSpPr/>
            <p:nvPr/>
          </p:nvSpPr>
          <p:spPr>
            <a:xfrm>
              <a:off x="1036800" y="6005520"/>
              <a:ext cx="738000" cy="39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69000" y="5878440"/>
              <a:ext cx="31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+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753080" y="5369040"/>
            <a:ext cx="407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2K-II takes benefit of more matter effe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61800" y="1704960"/>
            <a:ext cx="8947800" cy="3485160"/>
            <a:chOff x="361800" y="1704960"/>
            <a:chExt cx="8947800" cy="348516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361800" y="1704960"/>
              <a:ext cx="84204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336800" y="47912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8320" y="923760"/>
            <a:ext cx="5459760" cy="5150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09600" y="4348080"/>
            <a:ext cx="6191280" cy="730800"/>
            <a:chOff x="3009600" y="4348080"/>
            <a:chExt cx="6191280" cy="730800"/>
          </a:xfrm>
        </p:grpSpPr>
        <p:sp>
          <p:nvSpPr>
            <p:cNvPr id="138" name=""/>
            <p:cNvSpPr/>
            <p:nvPr/>
          </p:nvSpPr>
          <p:spPr>
            <a:xfrm>
              <a:off x="3532680" y="4348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1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09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27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36400" y="3016080"/>
            <a:ext cx="5945760" cy="762120"/>
            <a:chOff x="3236400" y="3016080"/>
            <a:chExt cx="5945760" cy="762120"/>
          </a:xfrm>
        </p:grpSpPr>
        <p:sp>
          <p:nvSpPr>
            <p:cNvPr id="142" name=""/>
            <p:cNvSpPr/>
            <p:nvPr/>
          </p:nvSpPr>
          <p:spPr>
            <a:xfrm>
              <a:off x="3520080" y="3016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236400" y="319644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0120" y="337932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48560" y="255096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3000" y="201600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040" y="6029280"/>
            <a:ext cx="5627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flector: 50% of the Flux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536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545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7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55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65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92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609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614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617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620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4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 for Super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655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663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675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682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683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6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703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 and SB flux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6960" y="1119240"/>
            <a:ext cx="7624440" cy="5405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712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hoice of the Energ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74560" y="1563840"/>
            <a:ext cx="8569440" cy="10252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rcRect l="33647" t="1798" r="0" b="0"/>
          <a:stretch/>
        </p:blipFill>
        <p:spPr>
          <a:xfrm>
            <a:off x="2357280" y="2577960"/>
            <a:ext cx="3457800" cy="6987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82560" y="1003320"/>
            <a:ext cx="7713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Neglecting Matter effect (Ok CERN-Frejus), for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38360" y="2743200"/>
            <a:ext cx="495360" cy="26676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2000" y="3560760"/>
            <a:ext cx="60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aximum of probability is obtained fo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1644480" y="3994200"/>
            <a:ext cx="279360" cy="1942920"/>
          </a:xfrm>
          <a:custGeom>
            <a:avLst/>
            <a:gdLst>
              <a:gd name="textAreaLeft" fmla="*/ 178560 w 279360"/>
              <a:gd name="textAreaRight" fmla="*/ 279720 w 279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40" y="5186520"/>
            <a:ext cx="35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famillies formul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73920" y="0"/>
            <a:ext cx="5473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4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L=130km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1320" y="6056280"/>
            <a:ext cx="28612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25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7320" y="357120"/>
            <a:ext cx="3607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s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1/√2,tan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20800" y="4025880"/>
            <a:ext cx="7821360" cy="736560"/>
            <a:chOff x="820800" y="4025880"/>
            <a:chExt cx="7821360" cy="736560"/>
          </a:xfrm>
        </p:grpSpPr>
        <p:pic>
          <p:nvPicPr>
            <p:cNvPr id="726" name="" descr=""/>
            <p:cNvPicPr/>
            <p:nvPr/>
          </p:nvPicPr>
          <p:blipFill>
            <a:blip r:embed="rId3">
              <a:lum contrast="24000"/>
            </a:blip>
            <a:srcRect l="23671" t="0" r="22290" b="46881"/>
            <a:stretch/>
          </p:blipFill>
          <p:spPr>
            <a:xfrm>
              <a:off x="820800" y="4025880"/>
              <a:ext cx="2760120" cy="7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4">
              <a:lum contrast="24000"/>
            </a:blip>
            <a:srcRect l="0" t="50378" r="0" b="0"/>
            <a:stretch/>
          </p:blipFill>
          <p:spPr>
            <a:xfrm>
              <a:off x="3534840" y="4062960"/>
              <a:ext cx="510732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60760" y="4053600"/>
              <a:ext cx="1908000" cy="708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rot="5400000">
            <a:off x="1682280" y="5663880"/>
            <a:ext cx="2793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2996640" y="5041800"/>
            <a:ext cx="635040" cy="304920"/>
          </a:xfrm>
          <a:prstGeom prst="rightArrow">
            <a:avLst>
              <a:gd name="adj1" fmla="val 50000"/>
              <a:gd name="adj2" fmla="val 5206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85600" y="5656320"/>
            <a:ext cx="443988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2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9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97360" y="4013280"/>
            <a:ext cx="520560" cy="749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213680" y="4368960"/>
            <a:ext cx="596880" cy="368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eam Energy comparis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-211320" y="5613480"/>
            <a:ext cx="48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hep-ex/0411062 with an early version of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538160" y="1465200"/>
            <a:ext cx="4404240" cy="4084560"/>
            <a:chOff x="4538160" y="1465200"/>
            <a:chExt cx="4404240" cy="4084560"/>
          </a:xfrm>
        </p:grpSpPr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4573440" y="1465200"/>
              <a:ext cx="4368960" cy="40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39" name=""/>
            <p:cNvSpPr/>
            <p:nvPr/>
          </p:nvSpPr>
          <p:spPr>
            <a:xfrm>
              <a:off x="4784760" y="5159520"/>
              <a:ext cx="13017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4360" y="51688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53160" y="51562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32600" y="5197320"/>
              <a:ext cx="13003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3200" y="51814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86520" y="519444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22160" y="2033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98640" y="19447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y-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69160" y="3568680"/>
              <a:ext cx="142704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4720" y="3789360"/>
              <a:ext cx="2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84720" y="4027320"/>
              <a:ext cx="241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84720" y="4305240"/>
              <a:ext cx="24156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9120" y="4556160"/>
              <a:ext cx="241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13200" y="1585800"/>
              <a:ext cx="241560" cy="344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41400" y="4189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0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52280" y="36860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13920" y="317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20680" y="2654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38160" y="469260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83480" y="2108160"/>
              <a:ext cx="820800" cy="5270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4543920" y="5784840"/>
            <a:ext cx="5068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3.5GeV is an optimu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761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62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5ba75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e5ba75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e5ba75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08240" y="3530520"/>
            <a:ext cx="820440" cy="527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63440" y="1050840"/>
            <a:ext cx="5405400" cy="5472360"/>
            <a:chOff x="163440" y="1050840"/>
            <a:chExt cx="5405400" cy="5472360"/>
          </a:xfrm>
        </p:grpSpPr>
        <p:sp>
          <p:nvSpPr>
            <p:cNvPr id="157" name=""/>
            <p:cNvSpPr/>
            <p:nvPr/>
          </p:nvSpPr>
          <p:spPr>
            <a:xfrm>
              <a:off x="163440" y="1050840"/>
              <a:ext cx="5405400" cy="54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37960" y="1055520"/>
              <a:ext cx="5267520" cy="27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66760" y="3738600"/>
              <a:ext cx="523548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flipV="1">
              <a:off x="1496880" y="1255680"/>
              <a:ext cx="0" cy="4818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213080" y="1342800"/>
              <a:ext cx="0" cy="481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2480" y="567684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1080" y="303516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040" y="49910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160" y="4749840"/>
              <a:ext cx="19814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4640" y="23558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120" y="210492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1280" y="130968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13080" y="132552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/pi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321960" y="0"/>
            <a:ext cx="33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eliminary (15/9/05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4320" y="2031840"/>
            <a:ext cx="4054320" cy="459720"/>
          </a:xfrm>
          <a:prstGeom prst="leftArrowCallout">
            <a:avLst>
              <a:gd name="adj1" fmla="val 48301"/>
              <a:gd name="adj2" fmla="val 50000"/>
              <a:gd name="adj3" fmla="val 101052"/>
              <a:gd name="adj4" fmla="val 82739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5.6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5400" y="4896000"/>
            <a:ext cx="4183560" cy="459720"/>
          </a:xfrm>
          <a:prstGeom prst="leftArrowCallout">
            <a:avLst>
              <a:gd name="adj1" fmla="val 25002"/>
              <a:gd name="adj2" fmla="val 50000"/>
              <a:gd name="adj3" fmla="val 151671"/>
              <a:gd name="adj4" fmla="val 80183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8720" y="585936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HARP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0640" y="250344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+12.5%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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@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2920" y="3335400"/>
            <a:ext cx="3255840" cy="11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ig difference [3.5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÷ 4.5] Ge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66720" y="4348080"/>
            <a:ext cx="847728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L</a:t>
            </a:r>
            <a:r>
              <a:rPr b="1" lang="fr-FR" sz="1600" spc="-1" strike="noStrike">
                <a:solidFill>
                  <a:srgbClr val="003399"/>
                </a:solidFill>
                <a:latin typeface="Comic Sans MS"/>
              </a:rPr>
              <a:t>74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(95)4384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181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732120" y="57499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quire close position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omparison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45000" y="853920"/>
            <a:ext cx="4599000" cy="560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7320" y="1027080"/>
            <a:ext cx="4157640" cy="4692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6680" y="577044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.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" y="6105600"/>
            <a:ext cx="39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ystematics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9-26T09:43:36Z</dcterms:modified>
  <cp:revision>251</cp:revision>
  <dc:subject/>
  <dc:title>SPL-Fréjus optimisation. </dc:title>
</cp:coreProperties>
</file>